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ADC-B2C2-4D4C-8DCB-07AB80A5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06ED-FA13-4713-BB1D-8C727B52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B4AA-838F-493E-A145-1B5DB12B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CA2D-286C-4B3F-BEB9-42F103C9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D524-6B49-4090-B665-ACB37B67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C586-CF8A-4C70-AF56-A2F7D586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8090-51D1-4892-93A3-AAD6F933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17FE-4ACA-4A63-95D5-471C7D21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CCF3-081C-4AC9-BFD7-EE345581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7DAB-85CA-4F65-9D20-667ABE95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6C06-C1D9-416A-AB29-3002DC0F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5791-A56E-444F-B0B4-F29A34CB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D7A4-15E7-46D7-99CE-07657925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7D50-F616-43BA-965D-532EE55F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719C-FD16-4788-8353-0DCD0F4D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5B09-E0C8-4844-9AB8-7142BEEF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720C-4357-4D17-9F34-7F006C85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76F2C-160E-425C-A5B9-22769AF1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5870C-63CE-4312-9DE4-DF01CD7F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215BC-7014-4ED4-9176-E7815903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EF2D9-A710-4B5B-9CAE-995B8D3F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43026-1880-4F4D-886C-E90FFCFA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498-C273-4928-A7D9-08AF4B1D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CE906-930F-4A0A-A5A4-8E25ABE5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76139-B2D4-495C-8B25-83B1DB74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57BE2-A529-40EB-9CF0-713F4CC1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DB990-07ED-417D-96A3-50B179D3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30108-6A22-489F-94ED-EDE7558F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4651B-2D81-4078-873C-7D03D8DB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4A6AC-839D-4729-AB56-8D037457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90704-4127-4BED-980C-E16A8932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4F8CE-269A-49FE-BFA0-A2FA00E9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3B63E-3252-49A2-BF2B-7F1BD6CF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40EE-3605-4797-9839-F154550E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A2736-8BFE-4EBF-BCD1-89F427F5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34BAF-5676-43BF-A90B-1A440839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0FDE2-D846-45D7-BA91-FDE5A131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7BE0D-4ACC-4B07-8D9C-0DD675D7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D7BB9-D910-44E3-A04A-5C94446E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40E51-7DDE-4F64-BA9E-08A686D1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4DC69-5FB7-469A-B72F-1BB3B785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5013A-E395-4258-BFEC-6E0CC9A0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6DE9F-734F-473D-999D-BA02FF1F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8387-CDD9-4128-AD40-7E9F789B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AD8B-B54C-41A8-8C49-8F5D719D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6AEA-4BA3-4912-9839-2A2A48F7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5D44-D0CB-4182-84A3-7453EB5A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32E0-F3BA-4EA5-A3AB-C4003861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21F5-9023-4E46-9762-64FA68F4ACA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5A3E-C9D7-456E-9887-CD639EF7906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82D1-9FA8-4754-900E-7126CF29FBE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840E-8A1E-45BA-8E56-146C9CFC7C6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76280" y="1536840"/>
            <a:ext cx="8601120" cy="2558880"/>
          </a:xfrm>
          <a:prstGeom prst="rect">
            <a:avLst/>
          </a:prstGeom>
          <a:ln w="0">
            <a:noFill/>
          </a:ln>
        </p:spPr>
      </p:pic>
      <p:sp>
        <p:nvSpPr>
          <p:cNvPr id="196" name="TextBox 3"/>
          <p:cNvSpPr/>
          <p:nvPr/>
        </p:nvSpPr>
        <p:spPr>
          <a:xfrm>
            <a:off x="5076720" y="486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дагог-психолог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Жанбекова Ж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"/>
          <p:cNvSpPr/>
          <p:nvPr/>
        </p:nvSpPr>
        <p:spPr>
          <a:xfrm>
            <a:off x="642960" y="4790520"/>
            <a:ext cx="34290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Bookman Old Style"/>
                <a:ea typeface="Calibri"/>
              </a:rPr>
              <a:t>социа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Bookman Old Style"/>
                <a:ea typeface="Calibri"/>
              </a:rPr>
              <a:t>психиче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5589000" y="5000760"/>
            <a:ext cx="2814120" cy="764280"/>
          </a:xfrm>
          <a:prstGeom prst="rect">
            <a:avLst/>
          </a:prstGeom>
          <a:solidFill>
            <a:srgbClr val="b9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Bookman Old Style"/>
                <a:ea typeface="Calibri"/>
              </a:rPr>
              <a:t>УЧЕБ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Штриховая стрелка вправо 5"/>
          <p:cNvSpPr/>
          <p:nvPr/>
        </p:nvSpPr>
        <p:spPr>
          <a:xfrm>
            <a:off x="4214880" y="5000760"/>
            <a:ext cx="1000080" cy="642960"/>
          </a:xfrm>
          <a:custGeom>
            <a:avLst/>
            <a:gdLst>
              <a:gd name="textAreaLeft" fmla="*/ 100440 w 1000080"/>
              <a:gd name="textAreaRight" fmla="*/ 839520 w 1000080"/>
              <a:gd name="textAreaTop" fmla="*/ 160560 h 642960"/>
              <a:gd name="textAreaBottom" fmla="*/ 482400 h 642960"/>
            </a:gdLst>
            <a:ahLst/>
            <a:rect l="textAreaLeft" t="textAreaTop" r="textAreaRight" b="textAreaBottom"/>
            <a:pathLst>
              <a:path w="1000125" h="642938">
                <a:moveTo>
                  <a:pt x="0" y="160735"/>
                </a:moveTo>
                <a:lnTo>
                  <a:pt x="20092" y="160735"/>
                </a:lnTo>
                <a:lnTo>
                  <a:pt x="20092" y="482204"/>
                </a:lnTo>
                <a:lnTo>
                  <a:pt x="0" y="482204"/>
                </a:lnTo>
                <a:close/>
                <a:moveTo>
                  <a:pt x="40184" y="160735"/>
                </a:moveTo>
                <a:lnTo>
                  <a:pt x="80367" y="160735"/>
                </a:lnTo>
                <a:lnTo>
                  <a:pt x="80367" y="482204"/>
                </a:lnTo>
                <a:lnTo>
                  <a:pt x="40184" y="482204"/>
                </a:lnTo>
                <a:close/>
                <a:moveTo>
                  <a:pt x="100459" y="160735"/>
                </a:moveTo>
                <a:lnTo>
                  <a:pt x="678656" y="160735"/>
                </a:lnTo>
                <a:lnTo>
                  <a:pt x="678656" y="0"/>
                </a:lnTo>
                <a:lnTo>
                  <a:pt x="1000125" y="321469"/>
                </a:lnTo>
                <a:lnTo>
                  <a:pt x="678656" y="642938"/>
                </a:lnTo>
                <a:lnTo>
                  <a:pt x="678656" y="482204"/>
                </a:lnTo>
                <a:lnTo>
                  <a:pt x="100459" y="482204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428760" y="2286000"/>
            <a:ext cx="8001000" cy="1903320"/>
          </a:xfrm>
          <a:prstGeom prst="rect">
            <a:avLst/>
          </a:prstGeom>
          <a:solidFill>
            <a:srgbClr val="b9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Bookman Old Style"/>
              </a:rPr>
              <a:t>Адаптированность –</a:t>
            </a:r>
            <a:r>
              <a:rPr b="1" lang="ru-RU" sz="3200" spc="-1" strike="noStrike">
                <a:solidFill>
                  <a:srgbClr val="000099"/>
                </a:solidFill>
                <a:latin typeface="Bookman Old Style"/>
              </a:rPr>
              <a:t> осознанная способность активно взаимодействовать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Bookman Old Style"/>
              </a:rPr>
              <a:t>с новой внешней ср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500040" y="1071720"/>
            <a:ext cx="7929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Bookman Old Style"/>
              </a:rPr>
              <a:t>Адаптация – приспособл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6600cc"/>
                </a:solidFill>
                <a:latin typeface="Arial"/>
              </a:rPr>
              <a:t>Что затрудняет адаптацию?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00040" y="1714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342720" algn="just">
              <a:lnSpc>
                <a:spcPct val="85000"/>
              </a:lnSpc>
              <a:buClr>
                <a:srgbClr val="000000"/>
              </a:buClr>
              <a:buSzPct val="85000"/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тиворечивость и рассогласованно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требований разных педагогов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42720" algn="just">
              <a:lnSpc>
                <a:spcPct val="85000"/>
              </a:lnSpc>
              <a:buClr>
                <a:srgbClr val="000000"/>
              </a:buClr>
              <a:buSzPct val="85000"/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42720" algn="just">
              <a:lnSpc>
                <a:spcPct val="85000"/>
              </a:lnSpc>
              <a:buClr>
                <a:srgbClr val="000000"/>
              </a:buClr>
              <a:buSzPct val="85000"/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На пятиклассника обрушивается поток информации, насыщенный терминами, непонятными словам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42720" algn="just">
              <a:lnSpc>
                <a:spcPct val="85000"/>
              </a:lnSpc>
              <a:buClr>
                <a:srgbClr val="000000"/>
              </a:buClr>
              <a:buSzPct val="85000"/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42720" algn="just">
              <a:lnSpc>
                <a:spcPct val="85000"/>
              </a:lnSpc>
              <a:buClr>
                <a:srgbClr val="000000"/>
              </a:buClr>
              <a:buSzPct val="85000"/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В 5 классе многие дети ощущают одиночество, так как первой учительницы рядом н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42720" algn="just">
              <a:lnSpc>
                <a:spcPct val="85000"/>
              </a:lnSpc>
              <a:buClr>
                <a:srgbClr val="000000"/>
              </a:buClr>
              <a:buSzPct val="85000"/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3427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мена статуса «старшего» в начально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школе на «самого младшего» в средне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4599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Bookman Old Style"/>
              </a:rPr>
              <a:t>ДЕЗАДАПТАЦИЯ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Bookman Old Style"/>
              </a:rPr>
              <a:t>(неадаптированность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285840" y="2857680"/>
            <a:ext cx="2214360" cy="2143080"/>
          </a:xfrm>
          <a:prstGeom prst="rect">
            <a:avLst/>
          </a:prstGeom>
          <a:solidFill>
            <a:srgbClr val="befa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оя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ризн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рев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ухуд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120" y="5357880"/>
            <a:ext cx="2592360" cy="1079280"/>
          </a:xfrm>
          <a:prstGeom prst="rect">
            <a:avLst/>
          </a:prstGeom>
          <a:solidFill>
            <a:srgbClr val="d2cc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тчуж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т школ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ем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6443640" y="2857680"/>
            <a:ext cx="2376360" cy="2084040"/>
          </a:xfrm>
          <a:prstGeom prst="rect">
            <a:avLst/>
          </a:prstGeom>
          <a:solidFill>
            <a:srgbClr val="f3e3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ниж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интер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к обучени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успев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5286240" y="5286240"/>
            <a:ext cx="3457800" cy="1152720"/>
          </a:xfrm>
          <a:prstGeom prst="rect">
            <a:avLst/>
          </a:prstGeom>
          <a:solidFill>
            <a:srgbClr val="bde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благоприят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оциальный стат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4143240" y="1571760"/>
            <a:ext cx="503280" cy="366480"/>
          </a:xfrm>
          <a:prstGeom prst="downArrow">
            <a:avLst>
              <a:gd name="adj1" fmla="val 50000"/>
              <a:gd name="adj2" fmla="val 342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2071800" y="1928880"/>
            <a:ext cx="446400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Bookman Old Style"/>
              </a:rPr>
              <a:t>ДЕСТРУК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Bookman Old Style"/>
              </a:rPr>
              <a:t>ЛИЧ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1"/>
          <p:cNvSpPr/>
          <p:nvPr/>
        </p:nvSpPr>
        <p:spPr>
          <a:xfrm rot="1340400">
            <a:off x="1120680" y="2049120"/>
            <a:ext cx="792360" cy="792000"/>
          </a:xfrm>
          <a:custGeom>
            <a:avLst/>
            <a:gdLst>
              <a:gd name="textAreaLeft" fmla="*/ 106200 w 792360"/>
              <a:gd name="textAreaRight" fmla="*/ 686160 w 79236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 rot="20956200">
            <a:off x="6567120" y="2074680"/>
            <a:ext cx="874800" cy="793440"/>
          </a:xfrm>
          <a:custGeom>
            <a:avLst/>
            <a:gdLst>
              <a:gd name="textAreaLeft" fmla="*/ 117000 w 874800"/>
              <a:gd name="textAreaRight" fmla="*/ 757800 w 874800"/>
              <a:gd name="textAreaTop" fmla="*/ 138600 h 793440"/>
              <a:gd name="textAreaBottom" fmla="*/ 575280 h 79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5"/>
          <p:cNvSpPr/>
          <p:nvPr/>
        </p:nvSpPr>
        <p:spPr>
          <a:xfrm>
            <a:off x="2857680" y="2714760"/>
            <a:ext cx="357120" cy="857160"/>
          </a:xfrm>
          <a:prstGeom prst="downArrow">
            <a:avLst>
              <a:gd name="adj1" fmla="val 50000"/>
              <a:gd name="adj2" fmla="val 89874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6"/>
          <p:cNvSpPr/>
          <p:nvPr/>
        </p:nvSpPr>
        <p:spPr>
          <a:xfrm>
            <a:off x="5357880" y="2714760"/>
            <a:ext cx="357120" cy="857160"/>
          </a:xfrm>
          <a:prstGeom prst="downArrow">
            <a:avLst>
              <a:gd name="adj1" fmla="val 50000"/>
              <a:gd name="adj2" fmla="val 89874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2714760" y="3571920"/>
            <a:ext cx="3357360" cy="1500120"/>
          </a:xfrm>
          <a:prstGeom prst="rect">
            <a:avLst/>
          </a:prstGeom>
          <a:solidFill>
            <a:srgbClr val="d2cc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ару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заимо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о сверстник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уч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2143080" y="4786200"/>
            <a:ext cx="285840" cy="571680"/>
          </a:xfrm>
          <a:prstGeom prst="downArrow">
            <a:avLst>
              <a:gd name="adj1" fmla="val 50000"/>
              <a:gd name="adj2" fmla="val 89870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6786720" y="4786200"/>
            <a:ext cx="285480" cy="571680"/>
          </a:xfrm>
          <a:prstGeom prst="downArrow">
            <a:avLst>
              <a:gd name="adj1" fmla="val 50000"/>
              <a:gd name="adj2" fmla="val 89984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5"/>
          <p:cNvSpPr/>
          <p:nvPr/>
        </p:nvSpPr>
        <p:spPr>
          <a:xfrm>
            <a:off x="5572080" y="4929120"/>
            <a:ext cx="285840" cy="571680"/>
          </a:xfrm>
          <a:prstGeom prst="downArrow">
            <a:avLst>
              <a:gd name="adj1" fmla="val 50000"/>
              <a:gd name="adj2" fmla="val 89870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5"/>
          <p:cNvSpPr/>
          <p:nvPr/>
        </p:nvSpPr>
        <p:spPr>
          <a:xfrm>
            <a:off x="2714760" y="4929120"/>
            <a:ext cx="285480" cy="571680"/>
          </a:xfrm>
          <a:prstGeom prst="downArrow">
            <a:avLst>
              <a:gd name="adj1" fmla="val 50000"/>
              <a:gd name="adj2" fmla="val 89984"/>
            </a:avLst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Двойная стрелка влево/вправо 18"/>
          <p:cNvSpPr/>
          <p:nvPr/>
        </p:nvSpPr>
        <p:spPr>
          <a:xfrm>
            <a:off x="5929200" y="3643200"/>
            <a:ext cx="642960" cy="285840"/>
          </a:xfrm>
          <a:prstGeom prst="leftRigh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Двойная стрелка влево/вправо 19"/>
          <p:cNvSpPr/>
          <p:nvPr/>
        </p:nvSpPr>
        <p:spPr>
          <a:xfrm>
            <a:off x="2357280" y="3571920"/>
            <a:ext cx="642960" cy="285840"/>
          </a:xfrm>
          <a:prstGeom prst="leftRigh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Диаграмма 3" descr=""/>
          <p:cNvPicPr/>
          <p:nvPr/>
        </p:nvPicPr>
        <p:blipFill>
          <a:blip r:embed="rId1"/>
          <a:stretch/>
        </p:blipFill>
        <p:spPr>
          <a:xfrm>
            <a:off x="390600" y="1274760"/>
            <a:ext cx="8289720" cy="54007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755640" y="1890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редние значения показателей тревожности пятикласс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йтинг страхов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28800" y="3000240"/>
            <a:ext cx="775800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Страх ситуации проверки знан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Страх самовыраж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 Страх несоответствия ожиданиям окружающи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. Страхи в отношениях с учителя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9640" y="213372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5:33:54Z</dcterms:created>
  <dc:creator>Крюкова</dc:creator>
  <dc:description/>
  <dc:language>en-US</dc:language>
  <cp:lastModifiedBy>samsung</cp:lastModifiedBy>
  <dcterms:modified xsi:type="dcterms:W3CDTF">2015-10-16T15:29:02Z</dcterms:modified>
  <cp:revision>55</cp:revision>
  <dc:subject/>
  <dc:title>Адаптация 5-х классов</dc:title>
</cp:coreProperties>
</file>